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67587"/>
        <c:axId val="10359694"/>
      </c:barChart>
      <c:catAx>
        <c:axId val="87167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59694"/>
        <c:crosses val="autoZero"/>
        <c:auto val="1"/>
        <c:lblAlgn val="ctr"/>
        <c:lblOffset val="100"/>
        <c:noMultiLvlLbl val="0"/>
      </c:catAx>
      <c:valAx>
        <c:axId val="10359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7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2A6-710B-49E5-BADE-8808406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EFB-6F1F-48B2-9482-374496B2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B6E-3AAC-4C18-8B51-207EB771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7C3-FA4D-42F1-9DA0-2BFE1353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124-F81A-4F8A-B194-3E7C5BC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204-C369-46FB-A9C5-60FABA4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59B-2C3F-4935-B2DB-C100875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B9C-5B46-4C69-A4B5-02513494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6C7-1175-4047-A5F4-808499E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2A2-EDCC-4A54-B0F5-6B2DB74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07D-6772-4C39-8434-44AB2EB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CF2-876A-42BE-8993-836E0A7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226F0-F9A8-44B5-9E37-C0F7E12E0A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