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02032"/>
        <c:axId val="45930542"/>
      </c:barChart>
      <c:catAx>
        <c:axId val="95702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0542"/>
        <c:crosses val="autoZero"/>
        <c:auto val="1"/>
        <c:lblAlgn val="ctr"/>
        <c:lblOffset val="100"/>
        <c:noMultiLvlLbl val="0"/>
      </c:catAx>
      <c:valAx>
        <c:axId val="45930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02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1D3-8F79-46AF-B182-E27D2E71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B51-6857-4D00-A5C8-4BC852C2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5E5-59FA-49D5-94C6-74AE17EC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D52-081B-4B79-9D91-4E6935B2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606-7DD1-45F0-9796-33BDA35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3A1-B2A1-485D-9FC7-182BEF3C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0C8-4273-44F1-B8DB-ECEFE831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17E-8AE7-4559-B2F9-49511BFE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952-EC6A-4720-8AAF-EF36E63C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212-554C-4ADA-89EE-5482CB3D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D53-B058-4E6B-A2E0-37A622E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067-9260-4623-BB0F-58357DC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E8FF8-F5B3-4ADB-A5FE-B31C666B2C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