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92001"/>
        <c:axId val="32408698"/>
      </c:barChart>
      <c:catAx>
        <c:axId val="88092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08698"/>
        <c:crosses val="autoZero"/>
        <c:auto val="1"/>
        <c:lblAlgn val="ctr"/>
        <c:lblOffset val="100"/>
        <c:noMultiLvlLbl val="0"/>
      </c:catAx>
      <c:valAx>
        <c:axId val="32408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92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14B-6087-43AC-BCFC-5CB0A378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8EC-3FF0-4764-B007-07257BA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E22-71E1-44AE-B4AA-7F549873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405-B2B7-4F0C-A1B7-C9EF0788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D1A-F307-4B30-83A2-07B6249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221-3C3D-46A4-AEEF-6B6A5FA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25A-465B-4DB4-95CC-E99F442A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86E-5F62-464C-A988-8CBEAD0F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324-DD7D-42F1-96D4-FCC6FB05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3E3-BC79-45D0-AC13-1423CA8E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C0C-CCB8-4C12-AA85-2645064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F0C-02CF-4553-80F5-DA481D3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BF57B-49EE-44F1-8EE6-4657707416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