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74086"/>
        <c:axId val="33948699"/>
      </c:barChart>
      <c:catAx>
        <c:axId val="41074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48699"/>
        <c:crosses val="autoZero"/>
        <c:auto val="1"/>
        <c:lblAlgn val="ctr"/>
        <c:lblOffset val="100"/>
        <c:noMultiLvlLbl val="0"/>
      </c:catAx>
      <c:valAx>
        <c:axId val="33948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74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C7A-9E88-49D1-823C-64401C43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273-A707-4407-991D-63E63D7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428-83A3-4833-AAA8-9FAE9CE2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4D6-050F-4AD6-B990-64C1AA7E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194-9B99-4096-B305-E100553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A0A-0DCC-4294-A4F7-E778296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C26-EC96-4869-8024-751FC2E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CFA-0FCF-4336-8F07-654DCB33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431-5029-4797-84C9-4125E80B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8C1-C37E-403B-8C89-CF08DE6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F21-ADAF-4CC9-AA95-7EE61B0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CCA-A616-4FE7-8CEA-8061D62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D0468-7B12-4D88-A397-0CFADFB906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