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89413"/>
        <c:axId val="62414881"/>
      </c:barChart>
      <c:catAx>
        <c:axId val="82589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4881"/>
        <c:crosses val="autoZero"/>
        <c:auto val="1"/>
        <c:lblAlgn val="ctr"/>
        <c:lblOffset val="100"/>
        <c:noMultiLvlLbl val="0"/>
      </c:catAx>
      <c:valAx>
        <c:axId val="62414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89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D5F-3FC2-45DD-B6A8-8A58D5E4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60F-F0D0-4338-8B6B-D779A35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226-CEB0-46B7-A035-53CA4609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860-BAE7-40D4-A9FE-23B5D479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700-E73D-4E8F-9801-3F7C02C2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285-253E-422C-A6BA-BF80F48E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C33-053B-4A95-AF33-11DD358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CEF-3230-4E6A-895F-031E9ED0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2E2-1C2A-4183-A4DF-3BD5C879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648-4449-4250-A33B-759C928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61B-5071-4FDD-A8EB-77C4FAEA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99C-5CDF-42D4-AAF0-CA4371B7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897F7-8489-4F40-89C8-6BB0395D2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