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51264"/>
        <c:axId val="34570962"/>
      </c:barChart>
      <c:catAx>
        <c:axId val="59751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70962"/>
        <c:crosses val="autoZero"/>
        <c:auto val="1"/>
        <c:lblAlgn val="ctr"/>
        <c:lblOffset val="100"/>
        <c:noMultiLvlLbl val="0"/>
      </c:catAx>
      <c:valAx>
        <c:axId val="34570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51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383-F69A-4839-ADAB-FFA7F145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A46-C814-4E2D-8E02-E5AE003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836-006E-4EE3-855D-119999EA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FCE-E674-4892-9114-899685BC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3D4-6A2E-4EEF-B5A3-E04CDCC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E5E-FC15-484E-9017-FCBEFC4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3EF-DEE1-4EA3-A55F-E6B6C2F5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C22-4788-42DC-95E1-E4E7BCFA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7E1-3613-44E6-93C0-A2CB449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6F8-86D3-4CD8-B169-37F59A7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509-D1BF-4639-8592-2609FD7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22F-A851-4CDC-A5FA-FCAA07D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10A2C-C850-4BC2-8B7C-BC0D6EA93D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