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91169"/>
        <c:axId val="48456213"/>
      </c:barChart>
      <c:catAx>
        <c:axId val="31391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56213"/>
        <c:crosses val="autoZero"/>
        <c:auto val="1"/>
        <c:lblAlgn val="ctr"/>
        <c:lblOffset val="100"/>
        <c:noMultiLvlLbl val="0"/>
      </c:catAx>
      <c:valAx>
        <c:axId val="48456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91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691-C643-4650-B224-24F36CF6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EC7-923C-49B2-814B-9CAECC72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C8B-3C35-428D-B8F9-AAF02DB8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A59-9670-42F1-B8AD-93B0D389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3AD-AFA2-4ED3-ADCA-3EE5023B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9BC-A23E-49F1-8B3B-B26CDAF3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6B2-0EE4-4634-934E-FB19546A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CF9-627E-418B-ADAB-B8CB3D06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F13-6C82-4215-AC68-3F9B1148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3F9-122C-43CB-8672-EB058C70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A22-ACFF-4013-8B2F-A6F03E79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CC9-951E-4C50-B4AE-38E57947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320B1-FAC3-4603-87DC-E7515F45CD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