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9322"/>
        <c:axId val="22229163"/>
      </c:barChart>
      <c:catAx>
        <c:axId val="7709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29163"/>
        <c:crosses val="autoZero"/>
        <c:auto val="1"/>
        <c:lblAlgn val="ctr"/>
        <c:lblOffset val="100"/>
        <c:noMultiLvlLbl val="0"/>
      </c:catAx>
      <c:valAx>
        <c:axId val="22229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9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5A7-CE00-4A26-BDE9-9DDE38C2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7AD-3206-4085-84D9-5E0EFC35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809-D000-4A3C-8242-505B7A15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474-E360-4BA5-9875-CBA48B23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A4F-0D2B-486D-A977-4F69C7EB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8A5-8309-49F7-BBCF-AED30AB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B51-6B2B-4E62-ACD2-1CC4FC4A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B1E-792B-4029-BDE9-491FE125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249-98C7-4C39-87E7-000B3454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661-8184-4F9A-AA1A-F5122F92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ED0-BC4E-4D26-96CA-29A140F5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B3F-AC6C-4CF2-97D7-A5AB94D6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5D17D-F760-46ED-ABB7-5EEBFB106B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