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76777"/>
        <c:axId val="25424160"/>
      </c:barChart>
      <c:catAx>
        <c:axId val="242767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24160"/>
        <c:crosses val="autoZero"/>
        <c:auto val="1"/>
        <c:lblAlgn val="ctr"/>
        <c:lblOffset val="100"/>
        <c:noMultiLvlLbl val="0"/>
      </c:catAx>
      <c:valAx>
        <c:axId val="25424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767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239-1F7F-4F7B-82DC-B9456589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EF2A-8C7A-4484-A06C-8F0B1A71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28E2-BC1F-46BB-93D4-923CF8BB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27E5-D62D-4241-ACDF-70C39893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6B0B-4848-416F-8D0C-06D240EB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827-A9D0-439A-AA17-14DDFEED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1C8-770D-43D6-AD0F-0FF92ED3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FC9-E79B-443C-A19F-109EBB7B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DD21-3F66-4BCF-B86F-47BC7863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04D1-E22D-4993-BDE7-CDD1031B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0915-54DD-448E-86A8-82E1C1D2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2A9-10EE-473C-B767-3E1AF5E9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EF2A4-E9E7-4EC7-8F54-E8B0076E55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