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80677"/>
        <c:axId val="9596162"/>
      </c:barChart>
      <c:catAx>
        <c:axId val="63080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6162"/>
        <c:crosses val="autoZero"/>
        <c:auto val="1"/>
        <c:lblAlgn val="ctr"/>
        <c:lblOffset val="100"/>
        <c:noMultiLvlLbl val="0"/>
      </c:catAx>
      <c:valAx>
        <c:axId val="9596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80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3AA-B561-4553-9734-8E00D0F2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ABB-21DB-4E2E-917C-D476C953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681-A693-4ACE-AA22-73E47DC8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BF6-0B4E-4E40-BDE8-BB3755B4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97F-E79B-4808-BD0C-33591B0A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A09-F2C4-4486-966D-32577DE7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2BA-1FA7-4AFD-BCB0-1BE4C33D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0A5-9ED5-43DE-BEF8-0514A649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139-AFC6-433D-8FF4-4AEE3459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D96-076D-40D6-B588-1F215DC5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897-6FDF-4214-B301-CFABC0D7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1B0-7364-40B0-A465-EC48FF2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2849C-6FB1-4102-8EE9-C3230775E6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