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36583"/>
        <c:axId val="63848212"/>
      </c:barChart>
      <c:catAx>
        <c:axId val="13636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8212"/>
        <c:crosses val="autoZero"/>
        <c:auto val="1"/>
        <c:lblAlgn val="ctr"/>
        <c:lblOffset val="100"/>
        <c:noMultiLvlLbl val="0"/>
      </c:catAx>
      <c:valAx>
        <c:axId val="6384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36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9C7-4C17-494E-9056-A334A3D0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ADE-7D31-41E4-8AC7-AE465FFF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6B8-7FC0-4B07-A696-9870744C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16E-4469-42BD-B1DE-E39579CB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B67-307B-4877-BDBA-55A1B1CA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B6F-96A0-4795-A2EF-6C8381F2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864-4872-41B7-917A-51119497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815-84E0-4B8D-9D02-B31AA613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FCF-B3AF-4C10-B964-44FBAAB9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89F-FCF1-440A-B885-AE4F06F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519-8972-475F-B8B1-06B0C2EC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C26-D515-4125-80EE-1BDB4498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65527-0B50-43BD-92D7-C3BBB89CEA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