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316000"/>
        <c:axId val="18595334"/>
      </c:barChart>
      <c:catAx>
        <c:axId val="923160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95334"/>
        <c:crosses val="autoZero"/>
        <c:auto val="1"/>
        <c:lblAlgn val="ctr"/>
        <c:lblOffset val="100"/>
        <c:noMultiLvlLbl val="0"/>
      </c:catAx>
      <c:valAx>
        <c:axId val="185953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3160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155B-6EE5-45BA-9702-B52BCA5CE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2121-ADAA-42E3-8326-17BCD508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E82B-C725-44B3-9B8A-BAD872270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9621-D818-45E9-8D1E-4E291F1EE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9B5E-A6A5-4D08-AAA5-86666C73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A70A-CD8F-4CC8-85E6-28C74B38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147D-D1F4-4CDF-8E9B-F6DA13F2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F25A-55CE-4729-AAC3-A541A78D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E431-8F72-4B75-BE9D-B063BB1A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23DD-8ECE-49C6-9951-F78FCB38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2168-9718-4C6C-BB6E-D48A901C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3558-30EE-4D82-8857-2BD68718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9C568-DFDA-4A3C-8767-A7FDDE259E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