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36870"/>
        <c:axId val="12237661"/>
      </c:barChart>
      <c:catAx>
        <c:axId val="26236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37661"/>
        <c:crosses val="autoZero"/>
        <c:auto val="1"/>
        <c:lblAlgn val="ctr"/>
        <c:lblOffset val="100"/>
        <c:noMultiLvlLbl val="0"/>
      </c:catAx>
      <c:valAx>
        <c:axId val="12237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36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980-5F70-43F1-A74B-FD79CC49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C3D-94DE-405C-9729-51D3DA98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5B8-67F7-44A4-A0EA-C1D476AD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9D9-DF71-4D1C-91C1-896CACDC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E01-8C56-4E4A-8FD8-95CCD06E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8FB-F47F-48E9-BC82-F52C0FBF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19A-9E8A-41DC-B5FF-00AC3D07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E04-FE46-48B8-B961-724E19D1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DD3-A6A9-4E80-9C08-E3DE9606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A38-6FE7-4A2F-AA79-B595FB64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870-300E-40EF-B001-3DB02D13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A5C-C688-4CAB-97DE-2CC16E68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2A633-D1BD-4C2C-8971-49720816A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