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96520"/>
        <c:axId val="75863637"/>
      </c:barChart>
      <c:catAx>
        <c:axId val="41996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3637"/>
        <c:crosses val="autoZero"/>
        <c:auto val="1"/>
        <c:lblAlgn val="ctr"/>
        <c:lblOffset val="100"/>
        <c:noMultiLvlLbl val="0"/>
      </c:catAx>
      <c:valAx>
        <c:axId val="75863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6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C4D-877C-4605-B632-E7FF53A8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F04-B263-4997-A594-5878719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541-8397-4388-8812-7E4EF9FA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B9B-C03B-4741-9B93-C32D5D32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75F-5315-47A5-B4BF-0D446CE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41C-3B01-4668-A942-27A47518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C3F-5193-4287-A5BD-B147080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AD7-9ECC-451F-BBD4-C1FFA62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7C7-4C10-4283-B5A4-A82B8854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C97-D917-4A69-B88B-65DF48E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9FA-2640-4214-8726-949C964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FBB-E462-4DAF-A80E-7EF08F3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9E3CB-2CC4-4225-8046-9395604D5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