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90479"/>
        <c:axId val="70476846"/>
      </c:barChart>
      <c:catAx>
        <c:axId val="25890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76846"/>
        <c:crosses val="autoZero"/>
        <c:auto val="1"/>
        <c:lblAlgn val="ctr"/>
        <c:lblOffset val="100"/>
        <c:noMultiLvlLbl val="0"/>
      </c:catAx>
      <c:valAx>
        <c:axId val="70476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90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17C-03E1-4EBF-9658-9B0FDE0A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25E0-29CA-4845-8632-B1047863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B4C6-7BBD-45D3-B138-252FDD77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2817-5AE5-4965-AF15-21AAAB6E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037B-B5E0-4BC7-A04C-6888BC30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035-2E45-4107-90F6-B265CB9E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72F8-7885-4762-B391-181E73DD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23D8-C017-49B7-B253-21FD9217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A71-5B56-4791-A2D7-640F1161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CD5F-1BB6-4675-AA51-E252ADE1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CF7-7D1F-45DA-A150-001DAC18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E161-83A5-4E17-9E72-106D1220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2FFDE-6634-4000-A4A7-24E6772EF8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