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91567"/>
        <c:axId val="21139327"/>
      </c:barChart>
      <c:catAx>
        <c:axId val="4719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9327"/>
        <c:crosses val="autoZero"/>
        <c:auto val="1"/>
        <c:lblAlgn val="ctr"/>
        <c:lblOffset val="100"/>
        <c:noMultiLvlLbl val="0"/>
      </c:catAx>
      <c:valAx>
        <c:axId val="21139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9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D52-A090-4446-9E90-0AC00BF7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C18-381E-4882-9B50-2BE208B2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71A-CD23-40B3-8B21-AB93E8AB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0A8-1A41-41DD-A31A-4D0199A1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D07-8CB9-404B-9F42-2CC873DC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0E7-2411-4477-AC5B-D4C5FE2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72DF-F712-4ED1-B0B2-D30A64EA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40D-E230-42D4-B935-6F9E114C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836-3061-40FE-B007-3CAA4B37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08A-680D-4688-A657-827ED99A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122-2D6C-4127-B61F-DEEAD577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756-7867-4764-BBF3-9F6A9A29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E07C9-FF9E-4E4C-9803-2AB8E11EE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