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1361"/>
        <c:axId val="36918586"/>
      </c:barChart>
      <c:catAx>
        <c:axId val="2491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18586"/>
        <c:crosses val="autoZero"/>
        <c:auto val="1"/>
        <c:lblAlgn val="ctr"/>
        <c:lblOffset val="100"/>
        <c:noMultiLvlLbl val="0"/>
      </c:catAx>
      <c:valAx>
        <c:axId val="36918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1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EB7-01EB-4F69-A0A6-EC39A0FB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427-0F74-4314-A4A2-A9B13514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2DF-1537-4DDE-B88D-91F4FB5B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257-637F-492D-990D-C5434130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C9A-EE55-4F8E-9A05-779EC9C9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00A-8F12-47A0-90FE-08A036E1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9D9-7736-4988-87AD-457BA7C3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FF71-B858-429C-867D-2AE9B59F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070-B2C0-4F83-9061-324DF428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35D-4129-4385-8FF1-304A8B36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120-8AF2-49C0-984D-25E7D915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928-D0D2-4520-89E3-876BEC09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749F9-2A48-4AF7-AA4E-BBE43B2EE5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