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45911"/>
        <c:axId val="75037766"/>
      </c:barChart>
      <c:catAx>
        <c:axId val="30945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7766"/>
        <c:crosses val="autoZero"/>
        <c:auto val="1"/>
        <c:lblAlgn val="ctr"/>
        <c:lblOffset val="100"/>
        <c:noMultiLvlLbl val="0"/>
      </c:catAx>
      <c:valAx>
        <c:axId val="7503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45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D09-8290-4AF4-AF7C-C391ADE3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9A4-5997-4C9E-9E8F-D4D15C8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696-573C-494C-91E8-74440BCA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DBE-A74B-46A1-AC98-67AF0137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22B-E14B-4C01-BD07-B8EFAB69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D1C-7746-4789-A4A0-3F54E819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8FD-1AA1-4940-80D1-866A802D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07A-1EE3-4301-BA1D-A93E78C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C41-1DB5-458A-B0F6-40253A9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E62-31FD-41F2-A0F2-0540FBF1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8BD-9838-4D87-B0B8-44EE8C5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25A-A6AC-4353-A769-8027CE3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F4F07-671C-4E5C-A9BF-1847884B11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