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909342"/>
        <c:axId val="4675364"/>
      </c:barChart>
      <c:catAx>
        <c:axId val="149093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75364"/>
        <c:crosses val="autoZero"/>
        <c:auto val="1"/>
        <c:lblAlgn val="ctr"/>
        <c:lblOffset val="100"/>
        <c:noMultiLvlLbl val="0"/>
      </c:catAx>
      <c:valAx>
        <c:axId val="46753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9093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580F-F366-4CF4-A39D-79A6B9484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A6FA-DD7C-4488-A624-3EB0C16B5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37D5-5790-4C8A-AE46-BF4304C02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B33D-B7CE-43AE-AE3B-9919BF610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B560-A912-4DD0-9EE7-C1AC4B18B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D5F2-F2C6-44E4-97F0-318997244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27A9-9ABE-4BD8-A18A-6D44A7AD4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7A51-C26B-443D-9188-567269FDA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3E6D-099E-431E-B930-2902F3F39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1770-FC3E-4517-8487-B30B6C2E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ACAB-0DBC-490B-A8B3-1E129E81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478B-0EAB-4123-87C1-A445089A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5F2FF7-2DE2-4BB5-B525-BE0FFC7BDAE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