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14801"/>
        <c:axId val="37428824"/>
      </c:barChart>
      <c:catAx>
        <c:axId val="59214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28824"/>
        <c:crosses val="autoZero"/>
        <c:auto val="1"/>
        <c:lblAlgn val="ctr"/>
        <c:lblOffset val="100"/>
        <c:noMultiLvlLbl val="0"/>
      </c:catAx>
      <c:valAx>
        <c:axId val="37428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14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562-C1C8-46F7-B86D-00B17152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84D-70CD-4B00-BD7B-F688E11A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11C-8C35-4D29-B0E7-3814837D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F6B-2CFD-4456-BA6E-3402465D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392-E71D-4C5E-A26B-167F6DEF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591-7D53-4D0B-A3F6-A6C8D98A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028-80E7-435C-A32E-523BC41E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C69-67EB-42FF-BD59-5A661238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ADE-8DB6-4AE9-8782-D16AE21C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CA1-3599-4567-93C6-E1146184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A33-54AC-4BE2-A2B6-46A946CD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E3A-CDFB-4B4B-9E4B-B530E34E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BBD30-4768-410B-8530-8AF51F1E4E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