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049539"/>
        <c:axId val="285369"/>
      </c:barChart>
      <c:catAx>
        <c:axId val="250495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369"/>
        <c:crosses val="autoZero"/>
        <c:auto val="1"/>
        <c:lblAlgn val="ctr"/>
        <c:lblOffset val="100"/>
        <c:noMultiLvlLbl val="0"/>
      </c:catAx>
      <c:valAx>
        <c:axId val="2853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0495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67EB-7E85-47EF-B848-35236ACB1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E3CC-7A0D-4C03-9974-64235CE2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D8AE-D74F-44BC-805D-370317B03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66CE-D241-4D7B-A125-7A2ACBD44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49EC-C4AF-415B-95C3-A008776C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D5AB-1FA1-4798-81B3-FBF30685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3E1B-9C1A-47F1-BC57-F7317662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2ECE-2DA6-4FFE-97DB-81B47BD5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038C-6060-4B6F-B156-6F2E7C4E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BEAD-91F9-45AB-A6C5-2410B298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8177-9FD4-4888-9AB9-9DFE22B7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7C8E-86BA-4854-83DB-EDE89715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0458B-DE44-4342-85FB-FF5C0F51F8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