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81039"/>
        <c:axId val="64790396"/>
      </c:barChart>
      <c:catAx>
        <c:axId val="27881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90396"/>
        <c:crosses val="autoZero"/>
        <c:auto val="1"/>
        <c:lblAlgn val="ctr"/>
        <c:lblOffset val="100"/>
        <c:noMultiLvlLbl val="0"/>
      </c:catAx>
      <c:valAx>
        <c:axId val="64790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81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183-252F-4F51-9681-B80E8B01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CA9-5DE7-45B1-B31E-399C7E61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D3F-B739-447F-8EDF-C2CBE0BF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66E-54FE-441A-AC2F-6BEA63D1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BD2-064B-4988-B394-3E170C00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CF1-38F4-4AFB-AF39-B84B1AC1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FAC-10AC-421B-87CB-2BCBFCD1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ABB-4062-432C-9986-9182593D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798-02E4-4BE2-9117-8D25AE0C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5A9-0319-497F-B9D2-D5EF2899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AD5-0735-4929-9ECE-0EFA6241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266-688C-4B14-8CB7-9E5FAB26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60DE8-1C19-4B3A-AFA3-AF8E21D8E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