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797313"/>
        <c:axId val="6241089"/>
      </c:barChart>
      <c:catAx>
        <c:axId val="457973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1089"/>
        <c:crosses val="autoZero"/>
        <c:auto val="1"/>
        <c:lblAlgn val="ctr"/>
        <c:lblOffset val="100"/>
        <c:noMultiLvlLbl val="0"/>
      </c:catAx>
      <c:valAx>
        <c:axId val="62410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973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4DD-9A92-4066-8669-2137C2F9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CD0-DA44-44DB-AAC2-2556F0EB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018C-32C9-45AD-8878-9651C4FD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143-7B34-44B1-84A3-703AF6EC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8DE-F876-4501-B799-558CFC9E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83B-29A3-4B0F-AD39-18F878D9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2BB-3AC8-49E4-A625-5DE47DDE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EC02-35DF-4526-9DBC-1AE0DC8F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E0CD-5347-417E-AF3C-72FCD23E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D2E-3387-473B-847E-BA1356D2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84F-F2F7-4E1D-8F34-23733A67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599-EDF3-4D0F-81BF-75CDC0D3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C500F-B6F3-4E68-86E5-A0766178B3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