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00205"/>
        <c:axId val="96712266"/>
      </c:barChart>
      <c:catAx>
        <c:axId val="36002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12266"/>
        <c:crosses val="autoZero"/>
        <c:auto val="1"/>
        <c:lblAlgn val="ctr"/>
        <c:lblOffset val="100"/>
        <c:noMultiLvlLbl val="0"/>
      </c:catAx>
      <c:valAx>
        <c:axId val="967122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02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3833-5132-44D4-AE29-BDC0F27E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E12A-5F67-48AA-9481-9306A28E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992E-14D2-4290-9CE7-4E243BFF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4CF2-6C59-4E66-943E-704CB5A7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B06C-E444-45B1-AC71-9D1C1790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018B-E81D-4130-AAC5-DAFE4679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0539-4B3A-4172-AE8F-43A57FB0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2E9D-AB1F-46A7-83FC-5E5F7EDC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F522-F2F1-433F-A2FB-2C3C40D8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BC7F-1AAA-4B30-86E6-3907B0AA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A219-F777-475E-B8E3-2F912451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D90D-D296-49C7-8D67-57FFD138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87F28-5F2E-4E78-BD1A-5C53403507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