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87409"/>
        <c:axId val="9392616"/>
      </c:barChart>
      <c:catAx>
        <c:axId val="84387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2616"/>
        <c:crosses val="autoZero"/>
        <c:auto val="1"/>
        <c:lblAlgn val="ctr"/>
        <c:lblOffset val="100"/>
        <c:noMultiLvlLbl val="0"/>
      </c:catAx>
      <c:valAx>
        <c:axId val="9392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87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024-4910-4E4A-A397-6DC1086A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26C-19C6-4D33-B0FF-35A04D3E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3AD-EE9A-494B-9F7F-61156A16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CA4-DD9E-463B-8414-2516FF55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3CF-32CA-4861-8937-371BE497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D70-B430-4F40-9CCA-D3B0DAF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719-1E2A-4CA6-B4EF-EC870C12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3A5-9ADE-4461-95AA-6D2D14F7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FFB-62AD-4906-A791-06237290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E78-6D74-4346-A266-55DDEE16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776-FB11-4774-BFD7-35E8F91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260-4D97-46B4-B933-CCBADA2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E44A0-4437-434A-B2A1-7B4DCF1E5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