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27758"/>
        <c:axId val="1626537"/>
      </c:barChart>
      <c:catAx>
        <c:axId val="73927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6537"/>
        <c:crosses val="autoZero"/>
        <c:auto val="1"/>
        <c:lblAlgn val="ctr"/>
        <c:lblOffset val="100"/>
        <c:noMultiLvlLbl val="0"/>
      </c:catAx>
      <c:valAx>
        <c:axId val="1626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27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E7D-187B-412D-B5CC-3CA8B635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1E5-94BE-4F81-92EC-B4FBC2A6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BA6-E898-4FDD-B9AD-18AD63C4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642-0D8E-4CD5-A1A7-27192CE4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38E-60CF-4C45-B542-8F031B05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C0F-B36D-4998-BF54-C5B6C0A8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BCE-EC28-43CB-8726-0EA7D8D5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53B-113A-49A9-8445-2BDDEDA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C25-1F43-4C36-9839-0933F790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EB0-A1A4-4445-A32B-19F5E3C7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200-331C-426B-A102-6558E373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968-0805-4048-B733-E9E1349D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364C6-598B-4C42-811F-CA5EE1A50A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