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14658"/>
        <c:axId val="40125585"/>
      </c:barChart>
      <c:catAx>
        <c:axId val="62914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25585"/>
        <c:crosses val="autoZero"/>
        <c:auto val="1"/>
        <c:lblAlgn val="ctr"/>
        <c:lblOffset val="100"/>
        <c:noMultiLvlLbl val="0"/>
      </c:catAx>
      <c:valAx>
        <c:axId val="40125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14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1C7-C2A9-4087-9CCD-934BFD70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638-3C5E-4F5B-BEAF-98B9B94D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123-6908-4E98-B29B-E2547B76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B6D-F80F-43ED-85AB-16748AB2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646-5991-4B48-AFAC-54A9E1B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C99-1F0F-48CC-BB8E-3C902725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9A8-0DA3-4BBF-9FC4-2812E7CB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976-5D6D-499E-9CDE-142ACBC8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FE4-245D-40DC-AEF6-7DC786A4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9BD-2940-419B-9381-037B4D6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C46-584C-42AF-9C2D-E1CB5D9E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876-1795-46FA-94D2-83B2CFF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0C813-D423-4820-AB49-BBEE1722B9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