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518869"/>
        <c:axId val="62401217"/>
      </c:barChart>
      <c:catAx>
        <c:axId val="535188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401217"/>
        <c:crosses val="autoZero"/>
        <c:auto val="1"/>
        <c:lblAlgn val="ctr"/>
        <c:lblOffset val="100"/>
        <c:noMultiLvlLbl val="0"/>
      </c:catAx>
      <c:valAx>
        <c:axId val="624012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5188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E239-FA6B-47DE-9C74-8C08782E2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BBA3-43DD-442F-83CD-5C4D021C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6CBA-A7CB-4E29-9899-35263F71D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3168-A5E4-41CB-B598-9B99D59DF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22F2-3E4B-400B-B59C-0BB971B1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F18C-7576-4540-9CE0-6F33099C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1143-BD88-4397-A85F-AC19587F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8C6B-3260-4A18-8738-70849166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C3D4-F7CC-4E2D-9E53-318564F2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5B60-8163-41FA-B2F5-BAFFC45F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81C2-49AA-4C47-8E9F-6BC9EECF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D6C0-9479-4C55-B921-8EEDFFBD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F958CF-2E0F-4D71-89D9-94D7F8A1A9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