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9002952"/>
        <c:axId val="50333686"/>
      </c:barChart>
      <c:catAx>
        <c:axId val="6900295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0333686"/>
        <c:crosses val="autoZero"/>
        <c:auto val="1"/>
        <c:lblAlgn val="ctr"/>
        <c:lblOffset val="100"/>
        <c:noMultiLvlLbl val="0"/>
      </c:catAx>
      <c:valAx>
        <c:axId val="5033368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900295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9DE4A-70AB-4EBE-9BEF-72CFE1859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51898-0350-4626-8E0C-96F195BB8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D3B9A-9BA1-4D94-BF34-F5401A129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5D360-8703-4785-8DAE-62F2E868C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8436A-3EED-451A-BD14-67F61B106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08083-2EE7-429E-BE64-DCFAE81A1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95AF5-D58E-450A-8D65-51D8F3207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55466-7200-4233-979B-7E3A9B0FC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65E45-5E82-45FD-9D03-8EC63788D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35ED2-7579-4B6E-9DBC-7F4371280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7421E-34FD-4595-A636-F8A264EC0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73191-A788-452A-91E5-4F543AF3E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569C83-EB19-4492-8186-ED007ACCC21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