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18110"/>
        <c:axId val="67191542"/>
      </c:barChart>
      <c:catAx>
        <c:axId val="70118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91542"/>
        <c:crosses val="autoZero"/>
        <c:auto val="1"/>
        <c:lblAlgn val="ctr"/>
        <c:lblOffset val="100"/>
        <c:noMultiLvlLbl val="0"/>
      </c:catAx>
      <c:valAx>
        <c:axId val="67191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18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EAB-343F-4D15-960D-140316C2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3F6-C8AA-469D-A6BA-41D0626B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F5E-F4DD-430A-9A57-93B588F0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9E3-5A21-4B86-97EE-566377A1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7AC-DF4F-46F4-A212-25CEAB42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F32-4E67-4E0F-839D-B153B95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5C4-ACD6-412C-9117-9C8175E7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D86-3581-4C55-8FC1-0ED49579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260-D26B-461D-9045-CF3E6E9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4D7-A929-4BE3-AD8B-B8FE6ED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09B-E3C2-4ADB-8C36-F0EF66F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99D-2A11-4D7A-90B9-0D30140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72614-C4B1-449C-8578-D318D595D8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