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56811"/>
        <c:axId val="57441657"/>
      </c:barChart>
      <c:catAx>
        <c:axId val="132568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41657"/>
        <c:crosses val="autoZero"/>
        <c:auto val="1"/>
        <c:lblAlgn val="ctr"/>
        <c:lblOffset val="100"/>
        <c:noMultiLvlLbl val="0"/>
      </c:catAx>
      <c:valAx>
        <c:axId val="574416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568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F1F3-555A-40FA-BBD9-02DA4673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68E-66EC-4E8F-BF39-AFE14305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795-9593-4973-978D-649F9109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7D88-17E5-4F34-A7C9-26E95313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3E4-97A8-4457-8DC9-80352DAB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402-CA49-487D-90B7-7EBC716C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34B3-4CCA-41E0-B4C7-6BBD9D20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95A-5EBC-4778-BD04-9BDF3C09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3A65-C9DE-414C-A6BD-3E08EB46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025-FED1-4B0E-8D36-DDED135B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63B-3ADB-4DAC-A778-D0AFEAB8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3EEE-6FDB-452F-B491-02B29B4E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B8CA1-1E07-4040-878A-2D2CDFDC6B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