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393060"/>
        <c:axId val="96211192"/>
      </c:barChart>
      <c:catAx>
        <c:axId val="513930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11192"/>
        <c:crosses val="autoZero"/>
        <c:auto val="1"/>
        <c:lblAlgn val="ctr"/>
        <c:lblOffset val="100"/>
        <c:noMultiLvlLbl val="0"/>
      </c:catAx>
      <c:valAx>
        <c:axId val="962111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930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7DAA-61A1-415B-9395-909B8187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7168-51D9-40A0-A3EA-AA629BE3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E6E9-9598-4912-BAD2-74502E05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32C3-00DC-4AE1-B870-10787E56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9B7F-3F50-46F3-9ABB-660E52F1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D129-639E-459B-996D-21413652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23AF-0AF5-49E9-924B-222C7461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A614-D626-47FF-8482-EC40C74E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B325-1FBF-4193-BDE1-D34807CA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941-B5E1-4A7D-B411-8AEDCDB9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9A93-17BF-411C-B856-C532920F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18F3-1A4D-489C-9049-68BDA9C1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F51A5-9BB8-4856-A9FB-8C43BF7A5E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