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97445"/>
        <c:axId val="26565646"/>
      </c:barChart>
      <c:catAx>
        <c:axId val="50997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65646"/>
        <c:crosses val="autoZero"/>
        <c:auto val="1"/>
        <c:lblAlgn val="ctr"/>
        <c:lblOffset val="100"/>
        <c:noMultiLvlLbl val="0"/>
      </c:catAx>
      <c:valAx>
        <c:axId val="26565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97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400-47BB-4D30-A080-5E55B352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675-EAB2-4DA9-8120-969679D5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70E-7650-43C0-9B4D-7D9FB6D7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017-5784-47C0-8728-FD79F608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BAE-98A5-46B9-AD5C-59440E49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41C-407B-473F-AE9D-B8A9C06F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529-7E11-4F0F-A313-B4E9510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F7C-FF98-4B39-BED4-21ECE91C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CF6-37AB-495C-B438-F15F04E7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C17-CE33-4831-A85C-B38B362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2D8-EFE7-4E08-9B2B-7BE8008C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C48-1E73-44FC-85EE-AC92413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2AE6E-E7BE-4F1F-BB55-FFFC695B71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