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4647137"/>
        <c:axId val="2796205"/>
      </c:barChart>
      <c:catAx>
        <c:axId val="7464713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96205"/>
        <c:crosses val="autoZero"/>
        <c:auto val="1"/>
        <c:lblAlgn val="ctr"/>
        <c:lblOffset val="100"/>
        <c:noMultiLvlLbl val="0"/>
      </c:catAx>
      <c:valAx>
        <c:axId val="279620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64713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0E222-9081-4F71-A03E-0E5314FE7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94FB6-E352-4154-AEEB-C5D2C85E7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F4940-865D-40A7-8B24-F44936BB0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59E8C-D6F3-4694-B1C7-7456C2362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FFC46-C547-4D1D-9CC5-C2F84B6CB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628C3-D1C7-4ED8-A38C-77B9A675A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A67A5-21B2-492D-AA8D-647B60DD7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359F4-CD34-4ED9-984F-7DAA6F7F8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8E4CD-099F-4C2D-B44D-2B9422EDC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D8B6D-E9E2-42E3-94C0-943E79F70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FA555-57D3-4F72-B73A-F23676127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87CC8-2A24-4AFA-B1F6-C3FF0A390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5E438A-A96B-4217-87C7-88BF971B5B6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