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35804"/>
        <c:axId val="94341718"/>
      </c:barChart>
      <c:catAx>
        <c:axId val="8123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1718"/>
        <c:crosses val="autoZero"/>
        <c:auto val="1"/>
        <c:lblAlgn val="ctr"/>
        <c:lblOffset val="100"/>
        <c:noMultiLvlLbl val="0"/>
      </c:catAx>
      <c:valAx>
        <c:axId val="94341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3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011-D560-4203-8901-CA00545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D5A-7B96-4CAB-841B-C49CB0C7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DE4-E850-4DFD-BEF9-6985F506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4FF-F07C-48E0-AAA8-1BF3A3DB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D71-10B8-405D-8ADB-8C4FECA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A9F-5171-43CC-AF93-3B6CB6C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0D9-1C26-451C-A39E-6F0E4452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14E-9181-40FC-B41B-E21AF96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E54-5940-4473-BD70-5AF9E0C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B1B-5ED6-4D85-8658-EF047ACB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88F-7250-4302-92EF-C85FD64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CDF-0CC9-4CA7-8622-414BDB8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3CF36-FDD9-4F60-989A-959D3AD969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