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02732"/>
        <c:axId val="47163112"/>
      </c:barChart>
      <c:catAx>
        <c:axId val="7460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63112"/>
        <c:crosses val="autoZero"/>
        <c:auto val="1"/>
        <c:lblAlgn val="ctr"/>
        <c:lblOffset val="100"/>
        <c:noMultiLvlLbl val="0"/>
      </c:catAx>
      <c:valAx>
        <c:axId val="47163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0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CE4-57E1-4DEA-B9B3-F030E8DB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A26-FCC3-4183-9909-B5C3DAA5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EB9-77E5-4177-A51D-FE449BB3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833-8359-4485-9B67-6229E048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38E-303A-434A-8300-48409CE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045D-10E4-433F-A3D1-D2180ABA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1CF-851E-4440-8361-83F41003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119-3011-4333-A31E-336FEFD1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65A-37CF-4ACA-969B-036269D4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C10E-1926-4FE5-AECA-AC07CDD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BE1-769C-449E-A316-519B0BD5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EE6-E3BF-4393-8A48-D0F15DB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BE8E7-EB4B-4BD5-85E6-6C5B3D47D6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