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98163"/>
        <c:axId val="95667882"/>
      </c:barChart>
      <c:catAx>
        <c:axId val="232981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67882"/>
        <c:crosses val="autoZero"/>
        <c:auto val="1"/>
        <c:lblAlgn val="ctr"/>
        <c:lblOffset val="100"/>
        <c:noMultiLvlLbl val="0"/>
      </c:catAx>
      <c:valAx>
        <c:axId val="956678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981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8B7E-2E92-4AF5-8F79-49763FA2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0E3C-9AEA-46AC-8586-237BEDB5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2C77-F2B4-4EE1-99CB-0D8D7C00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FF64-3DF5-42BB-B9A3-260363AC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AD64-B133-44F2-8553-8248288A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C337-67FD-4EC3-9AD7-86B1A4E7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CDF2-C118-401E-8C04-3FE41B5D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1E7F-7098-49A9-BB02-F909D18C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65AD-1271-4388-AD53-A30BEE89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6CAF-7066-4C9C-B29D-8A1C1C98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6C64-120C-4E07-95CA-F7C9D466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FA44-C85D-4DA1-BDC4-6CEB6DD9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5A2F2-8057-4125-8C25-53F28D60A7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