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45419"/>
        <c:axId val="90705585"/>
      </c:barChart>
      <c:catAx>
        <c:axId val="77645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05585"/>
        <c:crosses val="autoZero"/>
        <c:auto val="1"/>
        <c:lblAlgn val="ctr"/>
        <c:lblOffset val="100"/>
        <c:noMultiLvlLbl val="0"/>
      </c:catAx>
      <c:valAx>
        <c:axId val="90705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45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53D-ACCD-4CCE-9D36-BB13E38D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ED4-2C5B-4C0A-8FC3-21A1B0FC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A63-36BA-488A-800D-0FB84A44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970-0A53-4994-9F88-BD098004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6FF-6B4D-46E1-970A-283BE662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277-1251-47F0-B643-5C6466B2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680-C1F7-4BF8-B9FA-D85D9477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785-E09E-4D9B-9C9B-E03FC9ED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2DA-7DC0-4E55-AD7D-320933D8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798-7F4D-4938-BE6E-6C417C79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848-2E35-441D-AD07-E39A1398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773-98A8-49C6-80A3-6D129C21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B73F1-AF5F-4D43-909E-2E4EC9CB59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