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28590"/>
        <c:axId val="46146479"/>
      </c:barChart>
      <c:catAx>
        <c:axId val="51528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46479"/>
        <c:crosses val="autoZero"/>
        <c:auto val="1"/>
        <c:lblAlgn val="ctr"/>
        <c:lblOffset val="100"/>
        <c:noMultiLvlLbl val="0"/>
      </c:catAx>
      <c:valAx>
        <c:axId val="46146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28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F9F-8FD6-4359-A06A-5A1D4EAF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C6E-B2DF-4A1E-BAA7-238ACBDA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D94-AD1A-4CED-B66C-AA6B3646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D83-3DDF-4680-87CB-8D47CA70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0B0-1A4F-4F21-A88A-227D6CCC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8F8-D403-4975-8527-33ABF831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016-E9B1-4FB4-AC74-835BF7F2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F31-55C8-48A4-8FDF-D882A097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398-A1B3-404F-928F-8935F916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554-8705-47B1-B163-3829C45A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E728-A037-4463-8364-BB7485BB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9EC-13E0-4AE9-8006-83395CB5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57806-A282-4C9B-B737-A44F3B234E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