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96211"/>
        <c:axId val="89509342"/>
      </c:barChart>
      <c:catAx>
        <c:axId val="29996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9342"/>
        <c:crosses val="autoZero"/>
        <c:auto val="1"/>
        <c:lblAlgn val="ctr"/>
        <c:lblOffset val="100"/>
        <c:noMultiLvlLbl val="0"/>
      </c:catAx>
      <c:valAx>
        <c:axId val="89509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96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91B-2502-40F0-89B8-A65FAA59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965-DC2A-42B5-8E1C-620B7796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98E-52AD-4444-9D78-1DD6B29A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B4C-17C7-494F-97F8-BD966BFC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953-A7AD-4470-8F24-6E5E8720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35E-53AB-4244-9184-071B21C0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30F-9327-4577-A68F-6B9A6EF5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F28-AC49-4E94-A2BD-DF8F3328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622-354A-421B-AFC7-6CC95450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A98-D3DF-4428-B733-9EF6FD35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1B2-C873-4F4B-8625-45DBB406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124-D9D8-4F7F-9728-05B1E902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80370-A0D1-497A-8F87-52AC760819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