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45761"/>
        <c:axId val="48059378"/>
      </c:barChart>
      <c:catAx>
        <c:axId val="78445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9378"/>
        <c:crosses val="autoZero"/>
        <c:auto val="1"/>
        <c:lblAlgn val="ctr"/>
        <c:lblOffset val="100"/>
        <c:noMultiLvlLbl val="0"/>
      </c:catAx>
      <c:valAx>
        <c:axId val="48059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45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A8B-2A9B-4DBB-9ACE-543E1708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DF5-208C-4A85-B8BC-E79ABBF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51E-7E23-4BBC-BD74-C1F9A7A1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F74-CAEF-4CA4-8CB4-D88CB4A3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F82-CC7F-4594-B4AE-0BF0BBFA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FD6-57C1-4119-9075-B0174450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4EB-2862-4BA6-9B67-2B39B075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9CB-2FE5-4DBD-965B-895DC293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DCA-81E5-4300-BD3E-D065AF88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01C-C007-430D-A44C-C33C313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893-2299-493A-8941-93BE2A6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958-64B7-4839-9C0D-B487B6B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0C7F3-4361-4F28-9E1C-5CDB383B0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