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62170"/>
        <c:axId val="31930534"/>
      </c:barChart>
      <c:catAx>
        <c:axId val="98562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0534"/>
        <c:crosses val="autoZero"/>
        <c:auto val="1"/>
        <c:lblAlgn val="ctr"/>
        <c:lblOffset val="100"/>
        <c:noMultiLvlLbl val="0"/>
      </c:catAx>
      <c:valAx>
        <c:axId val="31930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2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62F-857E-47D6-BD1D-C2131E57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2A5-8F1A-4F04-A812-021E4823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F6C-71DB-40D1-ADE5-7B7980D3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D93-7BC5-4A43-AC2B-47E9F2F8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CA9-4292-4561-9D8F-B7278393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EEA-8015-4F03-8FB9-86305633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FE4-B49A-4BE8-9984-E0A247D2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70C-249F-4489-B65F-AAAE275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C85-E583-47C4-85C7-284E5A70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FF8-79B9-459B-A46D-C2313DA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44F-2A40-4853-B77F-8D50C83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746-D985-4F5E-B30F-6ED00C1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B0F23-D412-43F9-9868-528349E115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