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36288"/>
        <c:axId val="2985898"/>
      </c:barChart>
      <c:catAx>
        <c:axId val="55236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5898"/>
        <c:crosses val="autoZero"/>
        <c:auto val="1"/>
        <c:lblAlgn val="ctr"/>
        <c:lblOffset val="100"/>
        <c:noMultiLvlLbl val="0"/>
      </c:catAx>
      <c:valAx>
        <c:axId val="2985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36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B35-9DC8-4C5F-A463-A1062AE3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CB2-A386-4B71-9847-317C3C1A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E74-7E69-468A-8611-D4B1520C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952-2A24-43F9-8092-602B5C7E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F05-3FD0-4A30-A4A3-5F9095B7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77B-F566-43F2-B511-B74DAFE6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953-35B4-44A7-870E-1C948B98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770-EBB4-4EE1-86CA-CF9A2771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AD1-9C3B-43AC-B258-4D816FFA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151-54FF-4740-8CE2-77E4C6EA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B72-177C-44AE-890F-A01CA076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85A-9C8E-459F-B33A-5676685F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B3CD1-D72D-4C78-89D7-EE11F0C2FD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