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C6F2E2F-7EC7-4F78-9FC8-AB7CE214681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A46F82E-9BCC-4FAE-9306-FF746F77089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53F3F54-92FC-48E0-A63E-C709BD5FDFA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69BF159-5F9E-4DC6-8E01-F539CF9106F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94879BF-A66A-4D6B-9DB7-168E7709618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5A5B00E-6169-4CFA-B44C-244D2124FFD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7B111C6-B5F4-47EF-BEE2-38554D1C157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D5364C6-B3C4-4BCC-B450-AFE42A28329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945E612-9169-4530-93E0-B448471E84C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9258BE8-F810-4478-A9F8-53F14C8C3CE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19582E5-F72B-4801-B1A0-A62308C3F5E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8B43583-6F86-419D-85F1-DD4A19B0EDC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4D5F7DD-BC4D-4CCA-9F2B-27BF03AEFD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5D11E9C-807B-4147-8F4D-7761138E02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9EB7263-E168-422A-8A53-56CD48BF8A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4193D4F-F594-4146-9E2A-A2F8AFB70D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0BEDB37-1940-4C25-8685-84E169D4395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3FDFE55-AA31-45B5-A5A1-801589C52C3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5A79DF1-6136-4986-AF06-337093750F6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6A0CD2E-F928-4524-86CE-3E1DCBA0724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3D31A54-C529-4479-8A65-1DE2C09836C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4AAAB00-1391-48C8-A20E-0EF2C79D824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EC13F4D-43EC-4B3E-BB25-FF72531AE74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0F8B388-EEE7-4068-8BA2-0734A4CA85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D2E3A68-ECA6-410B-8A8B-B9393830BEA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EC3619D-E4AD-4A44-B813-B363CD9538E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705D7A1-4357-4177-9176-8D677BD32C2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EA6D6A4-7266-4761-9ABA-ED30838298E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969449B-4C57-47B0-9BE4-658D499FA4B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A65C99F-BD22-48A4-888C-1350006825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045DBD-7426-4A93-B53B-9F8DAEC3C4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CD4FF4-01E8-4078-B101-7A5D2E4950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7A72A6-30A7-4361-AD91-2FB13ED16C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29B0E3-5131-490B-A91D-0D8139AD5A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EEC715-7213-4BBE-8203-09F4771AA5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9C4799-6378-4B0B-829B-0E8FB98A06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44508-33F6-44CB-9F84-984AD62D2A61}"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DA91D-4B40-47EA-A55B-CF42E5F1268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B5B8D69-BEB0-46AE-9663-573AC69D5566}"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E81164C-7FE6-4C54-9E92-B48BC57D9039}"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5995CE-F010-4EA0-B2D5-8BB581FFA289}"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8540FC0-2AA4-4DEC-A503-8F30EAC99E6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6A0F967-8DEB-46BE-80C3-930DDAF148B7}"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9DA542A-AAD3-49E3-9BC4-616F0D245957}"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A56041C-91F5-4614-A2AE-42A07227D414}"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D1FF40D-771F-4E3C-A2E4-1CFB49D6CB26}"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2BD90CA-7A85-4333-9E4C-DE7AE877D153}"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B3279B1-2738-401D-A63C-DCB9AD44240C}"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4D0AC7E-1B8D-4F9E-94C5-FDCE34064341}"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AF572B40-347D-4F0D-A4E0-45196F0EBA5C}"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66AC312-999B-4E66-80DB-24FB162D1C18}"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1B56722-5721-4632-99F1-7C400F614574}"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BDC8CA1-349D-4E83-B967-AFF90856D47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BD97DC-8767-47A5-AAFE-78B9DE831A89}"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5F010CE-6263-45ED-9356-185774086B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709FB13-FAC1-41B8-AA19-EAF4FED326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1A602D-93FB-4DDB-947F-0C073E220B09}"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8C5B5A2-AFC5-494F-8BD5-1B0A0287A1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1AC77DF-BB46-4945-9572-EFEAD5CF99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E445163-6A62-4F83-8629-0CF6A97979F9}"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2FBECCD-18ED-4CE8-89D9-DFD87837A5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C0CA6DC-4ABD-499C-9D6A-A4F9C9B804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AAF962-09E7-4ABA-A256-45787E897C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04D25A5-4944-4B8D-BC98-4474CED3DE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76D3591-4BE7-4231-88B5-139738D0E847}"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8245374-686E-41EC-A245-97CAFAA452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07519B2-E287-49F2-9EAB-8581DD5376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05E6A75-4F55-40C4-8DA5-61AA4A586692}"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11D8A0F-9450-450D-B879-C17B0245003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1AA698D-797B-4C92-A44F-A82AF8CDB25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1C5E6F2-8210-4F8F-BF5A-3E81FC10437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5A8CE9C-78D4-4724-9F17-589C9973928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80E8323-F198-4C69-84D6-42E3C88237B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5332746-36C7-4305-B174-4EBACC80E2A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A8DF60B-E481-4902-8D8C-C63190618F0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2B11220-4987-4DF6-BB84-6AB4090C35E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A4BA9A0-3D0B-409C-B47A-6EC6F2D93C9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C9293A7-A974-4881-8952-54A4FFC464A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A9B9ED6-D542-4CF9-BA01-C4C0BA0F839C}"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E961CB7-7FFD-4A63-8B38-C4DCE104138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4B98470-B211-441C-A4B6-7A1AACF7817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7E1EE2F-83A1-4023-9B47-51D619B8EF6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0E1B583-5B9A-4130-81D6-17F4F2AA1F5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79B9076-BDF7-4BFE-B8D1-85812DFE10E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9A188AD-7E89-431C-A440-0850D8BFE6A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E3EC6BA-0795-4416-AFC1-8A4D376C05A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664FB8D-4B0C-4AC4-85B2-0487F9DCE49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5CAD163-6BAD-4D27-AD66-18C4B1F308EE}"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D295E13-7551-4AF8-BDE7-8EC5AEC4885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6889EF-3C42-40E9-A068-F822279944E9}"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FEDA099-B343-4C5F-8C9A-83BDFD93006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F7D6F1A-F4F8-44D8-A3DF-27ABD12FFB2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AF89627-2AC0-4BA4-9208-6955A3103CE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6D7420E-35FB-4AC4-B43B-DD15D2A6CF3C}"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5BF80B4-A982-4B5C-8906-5C13DC004B90}"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BB7FCD0-A61D-437B-96AB-31370FCA8681}"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DE4CD4E-C20C-46E7-A257-2F5330B84296}"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56FE02B-0E8C-43FC-A7E4-3F685272E17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D35DBC5-5DB2-49EA-88CD-7532E1608252}"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973F8EA-7E82-4D29-9BF1-EA3A6711FD0B}"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30BFC9F-15B4-41C5-BE62-38C5A897F721}"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256B0C9-1073-487F-8EB4-6E2CD0239B4E}"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3E48CC-FD0E-466F-A3BD-953EA00B8CF5}"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DCD8ED1-160C-467E-A414-19758406E281}"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DEAD703-9297-4BB9-8B00-D39ED8B1ED15}"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40BA364-C7E3-49B8-A14E-F2FED4189DF2}"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CF8CDA0-02ED-47FB-9E2A-D85E3DA933CC}"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458E1F5-B5CF-4E15-8376-7BAFB50433A8}"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8259ACB-E823-4B1B-BD5C-EA23054C99BF}"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BDBFD5D-3AE5-404B-9B74-F7970F0144E2}"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5F93D44-FE83-4FAE-9DF4-5E3C26E8F6C9}"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D8200D3-A63F-4619-92F8-83ADBABC8928}"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A9DD995-AF6E-4D88-AE45-3DE4C6145D63}"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00E6B80-598D-4714-A48F-AC36F7E46046}"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AF7673F-D991-4859-A278-60BEF9C64969}"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F61EC08-BF6B-427D-AA57-A14750A639A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9D9105E-86C2-4840-8D3A-B126D60F460E}"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2A9947A-77D0-43C0-822E-2AAA625443F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D6A48DA-A204-4FB1-92AB-EF9189D8F542}"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257D548-30E3-446D-B753-6CE2B059B848}"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0431ADB-C458-48E7-83DB-7A777CBDF4D1}"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55B10F4-19A4-4061-AFC5-EE7BFAA4FF8C}"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D1B2F71-1565-4963-A24A-6A5B0BD28478}"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43E9A56-615C-4197-92D8-0DEBF73899EC}"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C5FEEC3-8885-4354-968A-828B117B5870}"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6ABC650-50BD-4800-BFC2-28BE040D5AAD}"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36B6D5C-052B-4696-BB59-70826CD3ED95}"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C79AB6E-61ED-45AB-8EBF-FE4A89ED062A}"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CCE97F6-BC96-47D3-AA16-B7D0E56E0008}"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E50F796-CBBB-49BB-A7F5-CC14F558117B}"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4211BEC-011A-46E7-BF77-E907842372C4}"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6ED0ABB-7C76-4E1E-BCBD-7D716F632895}"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55EBC8A-BC65-4F3B-AB74-2AE26495EA68}"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8ED4396-7FF9-4AB0-83F0-3E95F7D99538}"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F51B66E-9B29-461A-98F6-B92ED0D8316C}"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87B4C977-5BAB-4B20-932A-8A0BDD886D51}"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EEEA28B-6655-4D12-91FF-490A86A7DDBD}"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FD37B3D-E19A-4BC2-81CB-834208D349B0}"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FF49C82-3C48-4F12-8216-1D0ECE6E9A52}"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A59F96B-0CBA-4331-944A-AB985DEC9459}"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A4E6EEC-9A2D-4260-8883-99176673BBC4}"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74C2DF8-45C0-4EB4-8658-223513A65188}"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5940684-309D-41E5-927F-45703CC7C007}"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325E41-1607-4359-8FEF-2E444C67EE9A}"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E7AE9CA-C742-4E0A-BAA1-FD8FF665389A}"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94E851B-6A36-4CF9-B1DD-F87D2238F3E6}"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40017DA-2994-43EC-98A7-1B380B5DF7FB}"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86476B9-0BF4-4D3F-94B3-AEAA5EA2CAF7}"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411A454-9C5F-4F8B-9CCF-52DB9C6A926E}"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